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7E7-7D09-465E-9CE6-CD7164CF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5356-280D-4477-ACD6-CEE8A211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A43-24D3-42B1-A8E8-530119C4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697-E1D7-4ADC-863A-1E84B0C9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3DFE-5C2A-482E-A4E0-D46636EE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5E8C-73A3-4371-9924-3587C066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80BD-6DC3-4881-8539-7379A871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A4C8-B383-4BE8-9212-93D4F200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0635-5C1E-4467-A611-2F0FA7FF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3AEE-AB74-4FB4-8A18-1E782703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8F9A-1EB4-4BC2-8BA4-8A74DF03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1E86-E6F1-44BA-BDF3-580C1F31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9186-D12B-4473-B69C-D8AC0A40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E0EF-2FC1-41CB-9172-8D70AB91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DE60-953A-4A80-99A6-BFAAD3A5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AF1F-4EB0-47D3-B751-4C9B9D19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59DB-DB47-45B7-BA10-7C707DFD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263B-BC80-45F5-9173-8D8C525F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A722-6D5F-4859-A856-96FC776C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05E3-41D7-4F41-9AFC-1C01664F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AA85-B442-48CE-BB70-4B16C458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11C-7E7C-4D39-A86B-9794B9DA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6EC-E033-4505-9B6A-4846CF45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839-1719-4DAD-96B6-FEAAAAE8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E8B9-614B-4AC6-A830-37EF3B3D25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CB9C-F538-4999-BD0F-4BAA2C82A4A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Quanti sono 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’esperienza del 1985 rivisitata venti anni dop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95280" y="1890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La matematica è il linguaggio comune delle scienz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250920" y="189000"/>
          <a:ext cx="6286320" cy="3460680"/>
        </p:xfrm>
        <a:graphic>
          <a:graphicData uri="http://schemas.openxmlformats.org/drawingml/2006/table">
            <a:tbl>
              <a:tblPr/>
              <a:tblGrid>
                <a:gridCol w="1257120"/>
                <a:gridCol w="1257480"/>
                <a:gridCol w="1257120"/>
                <a:gridCol w="1257480"/>
                <a:gridCol w="1257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uppo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uppo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uppo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uppo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</a:t>
                      </a: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lcola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???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???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250920" y="4076640"/>
            <a:ext cx="7200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conclusioni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ahoma"/>
              </a:rPr>
              <a:t>Il metodo non è efficiente perché produce risultati molto diversi, anzi alcune volte non produce risultati essendo impossibile dividere per Ze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iedo di migliorare il gioco introducendo nuove rego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Emerge la impossibilità di una risposta univoca, e quindi la necessità di esprimersi per possibilità e per intervall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i conviene, per evitare la divisione per zero, di aggiungere sempre un’unità ad M2 e a C per cui il modello diventa: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9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Tahoma"/>
              </a:rPr>
              <a:t>N=(C+1)*M1/(M2+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ecidiamo di fare altre quattro prove con 14, 16, 18,20 biglietti estratti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Ogni alunno compie la sua estrazione ed il suo calcolo di 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i discutono  i risultati, si conclude che non vi è possibilità di arrivare ad una stima cer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Per questo si mediano i risultati e si calcola l’intervallo di confidenza al 95% con il test T di Stud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324000" y="1197000"/>
          <a:ext cx="4194000" cy="2716200"/>
        </p:xfrm>
        <a:graphic>
          <a:graphicData uri="http://schemas.openxmlformats.org/drawingml/2006/table">
            <a:tbl>
              <a:tblPr/>
              <a:tblGrid>
                <a:gridCol w="698400"/>
                <a:gridCol w="700200"/>
                <a:gridCol w="698400"/>
                <a:gridCol w="698400"/>
                <a:gridCol w="700200"/>
                <a:gridCol w="698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G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4643280" y="1197000"/>
          <a:ext cx="4194360" cy="2716200"/>
        </p:xfrm>
        <a:graphic>
          <a:graphicData uri="http://schemas.openxmlformats.org/drawingml/2006/table">
            <a:tbl>
              <a:tblPr/>
              <a:tblGrid>
                <a:gridCol w="698760"/>
                <a:gridCol w="699840"/>
                <a:gridCol w="698760"/>
                <a:gridCol w="698400"/>
                <a:gridCol w="700200"/>
                <a:gridCol w="698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G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301680" y="4149720"/>
          <a:ext cx="4194000" cy="2573280"/>
        </p:xfrm>
        <a:graphic>
          <a:graphicData uri="http://schemas.openxmlformats.org/drawingml/2006/table">
            <a:tbl>
              <a:tblPr/>
              <a:tblGrid>
                <a:gridCol w="698400"/>
                <a:gridCol w="700200"/>
                <a:gridCol w="698400"/>
                <a:gridCol w="698400"/>
                <a:gridCol w="700200"/>
                <a:gridCol w="698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G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4648320" y="4149720"/>
          <a:ext cx="4194000" cy="2568600"/>
        </p:xfrm>
        <a:graphic>
          <a:graphicData uri="http://schemas.openxmlformats.org/drawingml/2006/table">
            <a:tbl>
              <a:tblPr/>
              <a:tblGrid>
                <a:gridCol w="698400"/>
                <a:gridCol w="700200"/>
                <a:gridCol w="698400"/>
                <a:gridCol w="698400"/>
                <a:gridCol w="700200"/>
                <a:gridCol w="698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G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"/>
          <p:cNvSpPr/>
          <p:nvPr/>
        </p:nvSpPr>
        <p:spPr>
          <a:xfrm>
            <a:off x="1476360" y="260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isult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Tahoma"/>
              </a:rPr>
              <a:t>Test T di Stud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50920" y="1628640"/>
          <a:ext cx="8663040" cy="3678480"/>
        </p:xfrm>
        <a:graphic>
          <a:graphicData uri="http://schemas.openxmlformats.org/drawingml/2006/table">
            <a:tbl>
              <a:tblPr/>
              <a:tblGrid>
                <a:gridCol w="1000080"/>
                <a:gridCol w="1773360"/>
                <a:gridCol w="1471680"/>
                <a:gridCol w="1471680"/>
                <a:gridCol w="1473120"/>
                <a:gridCol w="1473120"/>
              </a:tblGrid>
              <a:tr h="98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vst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rst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L1 9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2 9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grup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1,2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,8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2,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27,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grup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7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4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,6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3,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72,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grup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9,5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,1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15,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2,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grup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3,1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,6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3,5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56,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"/>
          <p:cNvSpPr/>
          <p:nvPr/>
        </p:nvSpPr>
        <p:spPr>
          <a:xfrm>
            <a:off x="611280" y="587700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1" i="1" lang="en-US" sz="1800" spc="-1" strike="noStrike">
                <a:solidFill>
                  <a:srgbClr val="ffffcc"/>
                </a:solidFill>
                <a:latin typeface="Tahoma"/>
              </a:rPr>
              <a:t>I Biglietti nella scatola erano esattamente 196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rasposizione del gioc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9280" y="833400"/>
            <a:ext cx="2183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scat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bigliet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estrazio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seg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estrazi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calcol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4716360" y="907920"/>
            <a:ext cx="3456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Un territo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Una popolazione chi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cattu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marca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ricat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stima per intervallo della popolazi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124000" y="1125360"/>
            <a:ext cx="2448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24000" y="1916280"/>
            <a:ext cx="2303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050920" y="2636640"/>
            <a:ext cx="2592360" cy="215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1547640" y="3357720"/>
            <a:ext cx="3095640" cy="35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2195640" y="4436640"/>
            <a:ext cx="2447640" cy="144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2124000" y="5229000"/>
            <a:ext cx="2448000" cy="144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punti di discussione/riflessio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907920"/>
            <a:ext cx="8540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Concetto di popolazione chi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Variabili di sistema (nascita, morte, immi/emigrazion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Necessità di una stima di popolazione per studiarne le dinamich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Metodi di cat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Metodi di marca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Differenze tra la simulazione e la realtà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914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ahoma"/>
              </a:rPr>
              <a:t>ANNO SCOLASTICO 2004/2005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Tahoma"/>
              </a:rPr>
              <a:t>ics”Matilde Serao”- Volla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Tahoma"/>
              </a:rPr>
              <a:t>“La natura – il numero – la simulazione”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Percorso intradisciplinare di matematica/scienze/informatica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773360"/>
            <a:ext cx="854064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Ho riproposto lo stesso gioco, raccontando la precedente esperienz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Consegna : Riprogettare il gioco con logica digit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Segue attività di Metariflessione e Metalinguaggio si prepara uno struttogram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(fase di importante mediazione docent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301680" y="260280"/>
            <a:ext cx="8540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i sceglie il software adatto (excel) (ex scatol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popolazione (ex biglietti) sono numeri da 1 a n ove n è il numero massimo nascosto dal docente e di cui gli alunni conoscono il solo indirizzo log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cattura viene determinata da un numero casuale che varia da 10 ad un massimo di 1/5 della popolazione (ex decisione arbitraria docente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Gli elementi catturati sono numeri casuali* compresi tra 1 ed n e sono sempre visualizzati sul foglio.(marcatu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2 cattura segue le stesse regole (ex 2 estrazione), si confrontano i numeri e si contano i ricattura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i calcola l’indice di Bail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i ripete 5 vol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i fa il test T di Student e si stima l’interval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*numeri uguali vengono aumentati di 1 unit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301680" y="69192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 gruppi fanno un progetto del percorso sotto forma di struttogramma. Individuano la sequenza delle operazioni e le formule da utilizza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Eseguono i calcoli e discutono la validità dei modell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Ricercano in internet modelli di cattura/ricattura nella ricerca scientif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coprono l’efficacia di un modello più evoluto al seguente indirizzo </a:t>
            </a: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www.tnstate.edu/ganter/B412%20Lab7%20PopSize.html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, che è il modello di Schnabel di ricattura multip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Ripropongono nuovi eserciz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isultat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324000" y="1700280"/>
          <a:ext cx="2668320" cy="20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00280"/>
                    <a:ext cx="266832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203640" y="1773360"/>
          <a:ext cx="2592360" cy="1838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773360"/>
                    <a:ext cx="259236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24000" y="3860640"/>
          <a:ext cx="2663640" cy="1838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3860640"/>
                    <a:ext cx="266364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3276720" y="3860640"/>
          <a:ext cx="2519280" cy="1800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3860640"/>
                    <a:ext cx="25192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6012000" y="2997360"/>
          <a:ext cx="3132000" cy="11523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2000" y="2997360"/>
                    <a:ext cx="31320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684360" y="616572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polazione effettiva 3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ahoma"/>
              </a:rPr>
              <a:t>Ambito disciplinare: Scienze nat., matematica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Tahoma"/>
              </a:rPr>
              <a:t>Dinamica delle popolazioni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Tahoma"/>
              </a:rPr>
              <a:t>a.s.1985/86 S. M. S. “Mons.Sasso” Torre del greco (Na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2420640"/>
            <a:ext cx="854064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rget : classe ter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iettivi formati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sare per proporzio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sare per probabilit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cessità dei modelli per comprendere il comples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-360" y="765000"/>
            <a:ext cx="57452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ahoma"/>
              </a:rPr>
              <a:t>Esempio Metodo Di Schnab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5219640" y="0"/>
            <a:ext cx="37450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  <a:ea typeface="Arial"/>
              </a:rPr>
              <a:t>metodo di schnabel di ricattura multiplo</a:t>
            </a:r>
            <a:r>
              <a:rPr b="0" lang="it-IT" sz="1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br>
              <a:rPr sz="1000"/>
            </a:br>
            <a:br>
              <a:rPr sz="1000"/>
            </a:br>
            <a:r>
              <a:rPr b="1" lang="it-IT" sz="1600" spc="-1" strike="noStrike">
                <a:solidFill>
                  <a:srgbClr val="333399"/>
                </a:solidFill>
                <a:latin typeface="Arial"/>
                <a:ea typeface="Arial"/>
              </a:rPr>
              <a:t>N= ∑catt*marcati</a:t>
            </a:r>
            <a:r>
              <a:rPr b="1" lang="it-IT" sz="16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  <a:ea typeface="Arial"/>
              </a:rPr>
              <a:t>/∑ricatt*marca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-433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406440" y="6534000"/>
          <a:ext cx="406440" cy="517680"/>
        </p:xfrm>
        <a:graphic>
          <a:graphicData uri="http://schemas.openxmlformats.org/drawingml/2006/table">
            <a:tbl>
              <a:tblPr/>
              <a:tblGrid>
                <a:gridCol w="4064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0" y="2060640"/>
          <a:ext cx="4548240" cy="281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4548240" cy="28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5076720" y="2133720"/>
            <a:ext cx="3743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Il modello di Bailey porta ad una media di 14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Il modello di Schnabel ad una stima di 29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Popolazione  reale 3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front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24000" y="907920"/>
          <a:ext cx="8540640" cy="4746600"/>
        </p:xfrm>
        <a:graphic>
          <a:graphicData uri="http://schemas.openxmlformats.org/drawingml/2006/table">
            <a:tbl>
              <a:tblPr/>
              <a:tblGrid>
                <a:gridCol w="3960720"/>
                <a:gridCol w="2303280"/>
                <a:gridCol w="2276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te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asse/lab.informa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icienz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ica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ispetto ai contenu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ispetto ad obiet.Trasversa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bito me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mensione soc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dentificazione pro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dentificazione prodot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ssibilità approfondi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iproducibilit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541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ipo di attività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boratorio, situazione mediante il gio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Approccio metodologic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Mediazione tra insegnamento e apprendim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ostruzione da parte degli alliev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Gestione della clas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voro comune, (ipotesi di lavoro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voro di Gruppo e individuale (verific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ondivisione dei risultati (modifiche, conclusioni, formalizzazio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5406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icatori di proces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 docente osserva/valuta azioni, rapporti, comportamenti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sa chiede l’alun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sa fa e come lo f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le ruolo ha nel grup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nessere relazion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e si comporta di fronte alla difficolt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li le sue conclusio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l docente raccoglie il feedback 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Rinforza, corregge, suggerisce, orient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Riprogetta, coordina, Integra saperi emers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Si propone come valore aggiunto nella costruzione individuale ed in quella colletti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Tiene nota dei momenti cruciali dell’esperienz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Articola una narrazi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500720" y="4149720"/>
            <a:ext cx="4643280" cy="2708280"/>
          </a:xfrm>
          <a:prstGeom prst="rect">
            <a:avLst/>
          </a:pr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4211640" cy="4365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1403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Utensil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roporzio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Deviazione stand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Errore stand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La curva norm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l test T di Stu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4643280" y="4221000"/>
            <a:ext cx="414036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Oggetti costruit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ndice di Petersen-linco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ndice di Bai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2835600">
            <a:off x="5327280" y="1233720"/>
            <a:ext cx="2808360" cy="143964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192600 h 1439640"/>
              <a:gd name="textAreaBottom" fmla="*/ 124704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arrazio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piego lo scopo del gioc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it-IT" sz="2400" spc="-1" strike="noStrike">
                <a:solidFill>
                  <a:srgbClr val="333399"/>
                </a:solidFill>
                <a:latin typeface="Tahoma"/>
              </a:rPr>
              <a:t>indovinare quanti oggetti (biglietti) vi sono nella scatola  senza contarli tutti, in 2 o più estrazioni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Ogni gruppo estrae 15* biglietti, che si marcano con un tratto di penna e si rimettono  dentro la scatola. Chiedo cosa c’è ora nella scatola che prima non c’era ? Raccolgo le risposte e concludiamo in termini di </a:t>
            </a:r>
            <a:r>
              <a:rPr b="0" lang="it-IT" sz="2400" spc="-1" strike="noStrike">
                <a:solidFill>
                  <a:srgbClr val="333399"/>
                </a:solidFill>
                <a:latin typeface="Tahoma"/>
              </a:rPr>
              <a:t>variabili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Bbianchi, Bross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e in termini di </a:t>
            </a:r>
            <a:r>
              <a:rPr b="0" lang="it-IT" sz="2400" spc="-1" strike="noStrike">
                <a:solidFill>
                  <a:srgbClr val="333399"/>
                </a:solidFill>
                <a:latin typeface="Tahoma"/>
              </a:rPr>
              <a:t>relazio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ahoma"/>
              </a:rPr>
              <a:t>Bbianchi + Brossi =  TotB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(soluzione del problem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Chiedo se il problema è risolvibile ? Ne viene facilmente la impossibilità di risolvere il problema, e quind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Occorre una nuova estrazione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numeri scelti a caso tra 10 e 30, data come regola di gio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i sceglie un altro numero casuale (12), e si opera una seconda estrazione con il risultato che molti biglietti sono bianchi ma qualcuno è rosso perché riestrat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Chiedo: cosa abbiamo nella scatola ? Cosa abbiamo fuori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Analisi rispost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ahoma"/>
              </a:rPr>
              <a:t>Dentro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: Intb = variabile incognita, Intros = variabile no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ahoma"/>
              </a:rPr>
              <a:t>Fuori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: Estb = variabile nota  Estrros = variabile no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Chiedo : Quale relazione vi è tra l’interno e l’esterno della scatola ? Sollecito ipote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i="1" lang="it-IT" sz="2400" spc="-1" strike="noStrike">
                <a:solidFill>
                  <a:srgbClr val="ffffff"/>
                </a:solidFill>
                <a:latin typeface="Tahoma"/>
              </a:rPr>
              <a:t>suggerisco potrebbe essere la somma delle variabili interne= somma variabili ester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Gli alunni calcolano, e concludono negativ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Qualcuno prova con la differenza, qualcuno intravede la propozione. Si arriva così ad una ipotesi di soluzi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301680" y="0"/>
            <a:ext cx="854064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i arriva alla conclusione: </a:t>
            </a:r>
            <a:r>
              <a:rPr b="1" i="1" lang="it-IT" sz="2400" spc="-1" strike="noStrike">
                <a:solidFill>
                  <a:srgbClr val="ffffcc"/>
                </a:solidFill>
                <a:latin typeface="Tahoma"/>
              </a:rPr>
              <a:t>” E’ possibile che il rapporto esterno tra biglietti bianchi e rossi, sia eguale a quello interno  ?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l docente formalizza quanto gli alunni già hanno costrui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etti M1 i biglietti della prima estrazi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etti C i biglietti della seconda estrazi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etti M2 i biglietti riestrat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etto N il totale dei biglietti, ….si avr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N : M1 = C: M2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    da cu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N = M1* C / M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i passa a verificare l’ipote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 quattro gruppi calcolano N e si analizzano i risulta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18:32:03Z</dcterms:created>
  <dc:creator>Del Monaco</dc:creator>
  <dc:description/>
  <dc:language>en-US</dc:language>
  <cp:lastModifiedBy>Del Monaco</cp:lastModifiedBy>
  <dcterms:modified xsi:type="dcterms:W3CDTF">2006-03-04T06:43:18Z</dcterms:modified>
  <cp:revision>50</cp:revision>
  <dc:subject/>
  <dc:title>Quanti sono ?</dc:title>
</cp:coreProperties>
</file>